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A88-F33A-40CF-887D-A8CBC651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E6A-CFB4-493E-BE40-CA9A25E2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968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ED4-88BC-4658-872A-638CAFBE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753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56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753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56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790-FEF5-4627-8C77-15743CA6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ECC8-860A-4A1F-8957-BC31A3D5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BF3F-4D18-4672-8786-424D6200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DD41-AD91-4C6A-A409-3DF0629B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4D35-2FA5-4871-94B8-DFB0C2C9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21F3-E023-4C71-BF29-F7DCD69D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9047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FADB-DF14-4000-8286-388D3732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9334-3A04-45CD-91D2-8CACDD12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B5A-C1E6-46E2-9B65-60A48D16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968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C656-B69D-47F5-8988-19E4D29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1171-9F7F-4074-A0D0-AF3AFD6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047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2B87-9B63-4288-8692-2E0DE95F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968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2D27-FECD-43C7-A54F-5F00834B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53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456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04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753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456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0963-199D-4616-BEC9-6DD37621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0C9-1A16-4889-ABB6-C1425EA7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97E-BDDE-4AB5-9F83-EBB4C073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673-1F4E-4A3D-82FD-A46D4661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B3B-E722-43B2-870D-B0C2E71B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231-99F2-495A-8842-A5772F5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968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AA1-F3B1-4DDC-866F-AA8D841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70C-9BB0-4869-85F6-478EFC71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645A-6BCB-4CD6-880F-92F3A8A61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71629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67652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42840" y="6244920"/>
            <a:ext cx="487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77240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0386-03CE-4DF6-8B1D-3EB093714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3733920"/>
            <a:ext cx="7239240" cy="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71629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SME TAXES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1960" y="43434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lva Bla</a:t>
            </a:r>
            <a:r>
              <a:rPr b="0" i="1" lang="lt-LT" sz="2600" spc="-1" strike="noStrike">
                <a:solidFill>
                  <a:srgbClr val="000000"/>
                </a:solidFill>
                <a:latin typeface="Times New Roman"/>
              </a:rPr>
              <a:t>žulionienė (lecturer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imes New Roman"/>
              </a:rPr>
              <a:t>2013-05-23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Value added tax (VAT)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1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standard rate,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e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pplied to medical and medical purposes product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T is applie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for heating and hot water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upply of books and printed nonperiodical material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T rate is applicable to transport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D62-8CE0-456D-B3B8-C1331DC413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orporate income tax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% – the standard ra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%  – for micro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profit tax rate applied to legal entities is 15%. Small enterprises with an annual income not exceeding LTL 500,000 and an average number of employees not exceeding 10 are subject to a 5% profit tax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3CF-442C-40E6-BB35-8DBE05F180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Dividend tax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15% for legal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20% for private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nds received from Lithuanian and foreign enterprises shall not be taxed if the recipient thereof has owned no less than 10% of the shares for at least 12 months. The recipient may consider such dividends as non-taxable income in Lithuan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4F4-AA81-48A9-8F09-372A736212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Social security contributions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% pension insurance – emploee’s con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% health insurance – employee’s con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,98% -31,7% employer’s con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A7A-276E-4BF0-A431-ED1D65111C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Real property tax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a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0,3 % to 1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of tax is set annually by municipalities within this range. “Taxable value” is calculated by reference to market value, using a system of classification of different types of proper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F21-C105-460E-B89B-2316F9B01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Personal income tax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income ta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ncome tax of individuals (ITI) must be paid on derived income by: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idents of Lithuani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n-residents of Lithuania who pay the ITI on income sourced in Lithua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E95-335A-4001-A532-7BDD1F0CC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Main excise taxes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x object: ethyl alcohol and alcohol drinks, manufactured tobacco, energy drinks, fuel, electricity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30A-E287-4F0E-93F1-93E7BA0056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THANKS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FOR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0EF-A4D6-42FA-B48F-5C61CE01AF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1:08:56Z</dcterms:created>
  <dc:creator>Destytojas</dc:creator>
  <dc:description/>
  <dc:language>en-US</dc:language>
  <cp:lastModifiedBy>Silva</cp:lastModifiedBy>
  <dcterms:modified xsi:type="dcterms:W3CDTF">2013-05-22T11:41:27Z</dcterms:modified>
  <cp:revision>8</cp:revision>
  <dc:subject/>
  <dc:title>VMA MOODLE PRIEMONIŲ NAUDOJIMAS STUDIJŲ PROCESUI GERINTI </dc:title>
</cp:coreProperties>
</file>