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8CE-2EE0-478A-AD7F-D4F58FAC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BA2-B0C1-414C-A296-F5F35632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65C8-44EB-4D98-8A49-7F465D2B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D1A7D-4BB6-4602-BAE5-A3B1222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8AF3-3FC0-4E46-B469-EFB04FB4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4668-4E68-4737-8121-24A6B224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4AC82-746C-4817-8765-6FCD0532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40C4-B985-4A9A-908F-34561A4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5CA9-013F-4E24-861C-A5C66B3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37BA6-2768-4F6D-8F89-A28B9D27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8DDD-25CE-407C-8E95-0363265D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3AEAA-F79D-4164-AA79-69D0D7AD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7F4-F56E-4D7D-8411-C468324D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1FFE8-B8EC-4285-AA19-9AFAD1D3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F60D6-246A-47B3-B481-1E9EBDEE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68818-3332-4CF1-9E2B-BED3929A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9E3F-2E9B-4E68-B697-9AE5E91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243F-8699-42B2-9AC3-6C21E3CF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30E1E-27BC-4A97-943E-F3A9B81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79FC2-298D-40DA-A94A-D42B625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7BB32-72E0-4BB0-B5CF-157013E5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0C184-8237-458C-9D6B-D48766F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2965-B975-40C0-B28B-5AC345C5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C7B-3EA3-435D-8912-80999B34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F26EE-0873-4D2F-A8DB-B2988A80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18EA-69B7-4EAE-ABAD-6ABC1511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4818-9E36-4C10-9B17-E2216EE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A42B5-53A4-49F3-A844-684FCB0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54C79-175C-41EB-A7C7-1DA22EB4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BF41-E3D2-4D29-8580-34150EEB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9EAA2-0882-4B84-A84B-7490C03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F7089-3EC5-4613-9593-90E27B1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AEED9-5184-49E0-8287-22327A7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8CCB6-3AC5-431E-B845-2F5BFB8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9FFD-1E49-4E2D-B82D-D567BDE1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6CC3C-2C18-45E8-ACD9-7BE4D2E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AD72B-7B68-4A59-AF2F-E8EF94A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89AC-4398-4BCA-8A39-92F9130D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C6726-7E13-45FD-AD4C-B7861B7C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CE199-89CF-434D-8432-8CD4221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76315-C2AC-43B2-84D1-10BA329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085C7-E1A4-4CE1-974A-5EE5FE9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F1D98-2B94-495E-86C3-795ED1D8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92E9D-5366-4DA6-965D-0939C6B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B2418-AA70-4AC8-A5E9-6D85852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F1F3-5676-4421-8238-8636B85A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7B55F-6C5E-4575-A01D-586A3F5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B1484-87AA-435A-A435-65EB51FA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D7399-69D8-4174-A501-8FAF35E5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C8363-A6E4-49B1-8DB1-C7215089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32AB8-D170-47FA-BB54-782F5F1C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FCFCE-81D3-4724-ABB3-A7D1BE13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02BF6-455B-48C1-9D26-8D35D889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1E4FB-61B4-47AF-86BA-03DC2791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59FF4-9240-4120-A3EA-BE3A537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4B785-C41A-4942-90EF-6FF9A09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9911-2292-4EF9-9E84-B0A48F0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392EA-6D84-4475-B641-9AA0A4E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698DC-748F-4D19-9B40-8EE9BD2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60CD3-B0B4-418A-AA41-1CEE3B4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4717-AA72-4834-A32E-C9711CB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C610C-DDFA-4DCA-B4E3-893A530C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6534C-3822-4573-B981-033A9BB9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FE97C-B160-4258-AF23-4B13AD82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39A98-2D4D-4BFB-9A92-5781F9CF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994A9-0761-4FA3-81AD-F24E23D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C8B45-01F8-42A3-9D4E-406C94F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F85-4FB3-4111-9BD0-AC85A08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65280-F291-41A9-8B47-A11503D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D13D5-CA03-48A1-82E8-074EC0BA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8678C-1BDB-4D46-B756-159788C6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90861-36ED-480D-9D2D-CF9F337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1973B-4785-4032-A40D-A4D046E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D5280-DC29-4EF5-9C8B-CF8A544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ADEE0-7B5B-4F98-9F3F-3D8F335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5E675-19CB-4F65-9299-78576334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782DA-5D6A-46F6-8C7D-92DADD7D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8DD68-D406-4A10-9845-B388492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8EC5-6731-4B0A-AC80-AF0EABD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94294-EA8F-429B-9CB9-5BA73232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599B5-7BBD-4747-AC08-76C46BA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AEA14-3706-4896-ACEE-247A3230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1D7FC-8BD8-42B1-B6EE-7866891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27EDB-4449-480D-98D2-8E0B7435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B0BAA-5220-4DEF-BF26-C2A96FD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7D557-CD8E-4741-8C3F-BDDBAD3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D4E10-335D-4D51-94D5-6DC5249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386D9-8B18-4CD2-AEFF-071EF83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683FF-833A-42E4-99AB-FB8345B0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C0A-B5E4-4D8D-ADC3-DF8EDA27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E3A97-B78F-429B-85BD-11CCB8DB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280FE-5982-4BDF-8069-C2494EA3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9C975-D49B-423E-AD7E-B59DA01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23F99-F552-4B84-B5FB-677E02A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04FDF-B006-4E8C-AF84-89D5C94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E2DA7-BEE5-40A7-A7A3-6073B4C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ADCF6-7BC4-43EC-AACC-67A8CF5D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9B314-7F12-423C-A78A-D50A7B08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DB254-8179-4506-B2A0-2AF0F66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6542C-6CCB-4108-807B-7F4D46D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47C-450A-468E-B276-B65A035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FCBE1-6C9F-4C78-9FCB-9EE44670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8A9DB-94E3-47DA-A3B3-CC9CC7E1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082FC-51DE-4D80-AE82-69A70522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6B569-9F5D-43B0-A83D-A4E7B8C6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EC32D-375E-4161-8DAD-D415AD5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24A0D-1CE2-419B-A8C5-D1BCF3C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45644-25CB-4B2B-92F1-BE4AAB5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05FF7-4C10-424C-BB64-85B7769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F4214-8C1F-403A-8498-674514A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6476F-97CF-4447-8037-9154EF1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991-52AC-4DB0-B154-8C77C83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B2B-6B20-48FB-99E6-AC6C5D9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E6EBA-60F5-45A1-AC59-BC6C571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26DB9-FE6B-4AF3-A5C0-96045AC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5B02F-48EB-4AE0-91D4-20B7C35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74146-AEAB-446A-BE4F-5263687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F95A6-8104-4395-ABAC-4D742D51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2BC17-825B-4E4A-94A6-76D0C91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0B751-74B2-48BB-B217-34B6216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BE2D6-58E4-4C12-A417-3E255BA3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1FF83-D38A-41E1-A992-CBAAC07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36921-B6E8-4072-BAC1-8E38DF6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DAC-C01F-4193-B618-CC1A0E6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1DCDE-2C5E-4E71-A3BE-54657BA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42583-4CD0-4D30-A725-34C11B4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EFDE3-24C1-471B-9E4F-9C357E3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720BF-2EEC-416D-B9CD-7D0EAEC7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BA7DA-20C6-4204-8856-B6AD638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D35D5-17E3-46E0-B5B6-C8D70EF0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ACFE4-0AE4-40BD-83A5-70E34227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B7FC0-00B3-48E0-B579-6A897671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5D583-5621-431A-A9D7-1C9AA64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58B82-8335-4C00-A805-1D1F9301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C59-9137-45E5-82F4-16271C1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C0CD2-F111-458D-A552-CEDB1F9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B452D-96D2-473D-9BDE-3923CF34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F06EC-5F48-44D5-935F-229A1519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0D576-C3BE-4124-B3BD-3F11FDA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C0559-BE9F-4681-B36A-476B25F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91E31-B5B7-4F44-8378-8C37D34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2D4C4-62FC-4AE4-BBEC-6D8611D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2873D-BBE9-4D86-A4E8-27CDEC7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43DC1-0F0C-49D2-A14B-DF340C1A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073CD-5AB7-4695-AAA1-FE938802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48C-9D9F-4F88-8B0B-427A5682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05CFC-E9E6-4261-97DE-B803F73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5B12A-E970-447E-A262-47F6D29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995B4-9371-42F6-BBC8-7192453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3AEE1-0C4F-429D-AB4C-A36B6569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35EE9-7C3C-4A53-9899-60BC0340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CAB65-6443-4AA6-AF16-B1DC634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AB9EA-D7F2-4ACB-A663-7E98886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CE572-10EE-4129-AA7F-DB9A9E2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A4BA3-3842-4897-B2D1-8AD8658E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78FFE-5C32-426F-B8DE-43DD2D1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CBC1-BDF6-43C4-8BA0-0576C3E1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5A505-9670-4A3B-B41B-03C92DA5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6CE06-30C9-46AE-AADB-7C828DE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C5B8D-A506-4658-BD58-806B7B4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3279B-E899-4501-8788-310C9ED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D1C91-DCEB-407D-8916-47DBBD1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969B4-5951-4E53-B058-BC1517BF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3A196-0F21-49C9-9257-8B799F3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0DCAE-BE61-4646-B320-B82F718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6E7597-A246-4330-A6D4-FB3752E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E0668-5EC2-40CA-936F-1E936B2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20AA-551A-4104-BD9E-4C5366E4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84256-6202-4791-ABAA-E020226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31B813-8A41-469A-AAF9-2BC680A0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465B7-AEC1-4876-BF31-802660A6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6D99A-1B15-4E72-B7CB-43324943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23406-C50F-42D6-8B51-0196706D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22A8A-6D70-40CC-8FBE-8C02F4E4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D24C4-A19D-47FA-819E-0AEF3DB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F9CAB-B8C4-4A32-AD25-7B39984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5A3E4-A57A-4428-8198-89DD71A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F888B-4DA8-4B5F-8928-2886740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E576-562E-49A1-9BD6-1EF1DD0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27F53-EBAD-4991-B2E0-23694F1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69BD0-EF53-4579-AC82-E3944D8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005253-D3BF-4B43-8095-EE0511B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A0E56-7A0E-4B03-BED6-7A662BEC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21290-3401-409F-A269-A0CFA4D4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E76288-1262-4C4B-8B89-F5562604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7961F-1D37-49EB-9342-277C6AAF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1D813D-601E-433C-B55C-F9A03AB9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EF6439-CD5E-4598-B190-2205EDF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C21225-0855-4E6A-BF1A-528130F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36A1-E108-4507-A7E3-DDD09322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98BE1-3051-4B99-879D-2B64D4C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C0B50-0A9B-40B4-832B-C20155A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57D9E-49D8-46DD-AF8B-75B2745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1DFF1-168D-42B0-89F5-EB36EC7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31FB29-2486-4D73-9227-F7DDDE6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17BA81-D80A-4E3E-8704-9492F5F5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0FE49-247D-4E59-872E-6CFE5AB9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434BA4-BE26-4850-8A51-39F910CA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FA8D6D-E670-41EE-96C2-747FF93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E48D42-BDD6-4799-9BFF-F1F9DCC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D4AF-921D-4ADE-8E89-6841960D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F692E8-9A8A-4A93-B338-6FF605E5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CD820C-5BDF-4C64-842A-15CF94D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27AF1-E122-4FC6-8F9B-D1D5DF53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75997-7560-46BD-9144-0C30398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846860-2272-4521-A091-8C8D158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6F458-EBB3-4E64-AD38-31D99D0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95067-25DF-4673-8B92-2BE9B49C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AC391-6048-420D-A016-263293F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97D45-3BCC-49ED-855E-FFC0C26D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F98AC3-D2D8-4E1E-B7DF-1D764150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E856-92C2-487F-9A1B-4893DB9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CEE09B-9870-4F45-AADB-F6DFAC7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2954A2-D45D-4540-B750-E06C675A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FE0F5-72C1-43CD-BC8A-2D3A500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84440D-F5B2-4861-BCA5-0EFCC6BC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66760B-A6E0-400B-A309-F579D51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D0717C-24AF-4A78-A36F-078E2E3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28A091-8003-402A-B635-EF19011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7A1C99-FC32-42DB-91B0-491E042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1D81DD-94EC-471F-A05E-7BF48C5C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1971C7-FBF2-4FF9-8C7C-E94EF2C7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B60-7096-4537-8904-44667E4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211F-FDB1-4476-809D-3730CC1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17864D-F574-42E2-951D-A5068674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5E6FE-934E-4973-8067-C77EE200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F48FA1-E234-428E-A238-F4C744BE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B61986-8852-4FD0-B8DF-8AA9B76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BD5360-82B0-4FE4-BFEF-AAF9F2A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ABAA16-CA3D-4299-8DE4-B90ABD8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B58D70-6D5E-4F31-B39A-3C6972F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F9C83C-0976-4EE8-9017-7038BBC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21F6EF-C6F1-4F6C-8AC5-49F984A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3FC476-F4FF-4161-992D-FB26414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914B-4C8C-44CA-90AF-013A783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DE3BB4-960A-4E6F-92E5-3A4B96B6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C2C58-F57B-405B-9DA8-9A09F1A7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5837FA-FE3F-495E-8767-A719C7C5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AE404-AEFF-4B95-9EB8-624F6572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482C3A-BEC5-4002-A3E1-55FECE38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13B151-6A2F-4C53-8332-34C886D8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3897F0-7220-4150-9EC5-65735CC6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7E0E51-39FD-4539-AE8D-541FE7A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C7E2E-D07A-499F-A2C4-2D80A90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06511E-DD40-48C7-9A7B-38EA999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42B7-81E4-4E1E-B85B-A5BAE368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4F246C-4C0A-4E0E-9F8F-8C612DD2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ECC415-95AD-4EB1-8320-D6CC1DC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72B049-6664-4A0B-8525-D2D74911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51CDEC-59A1-4DC6-B524-29EE30FE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74B890-6F1D-44FA-92C3-73DB79B4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19BA33-FBAB-43FA-B7CD-FBF6B2FB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50E40A-5792-49D2-A76F-2380829F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716F09-EC99-4E0B-8546-EC2A12F5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795B6B-6698-4A9A-BC80-3013749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4B009A-DE36-4B2C-BE7C-3D96951A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4C82-06C8-4D4A-ABDB-6090F117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EC53E1-4837-4530-81A8-CBD0E3D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5DD920-A8CC-4D2B-A99A-1105EE9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FFECB4-45DE-42B2-8409-E005606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8BA664-E071-4050-BC53-832A0E8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AC3C3-49F4-4804-A680-FB6D340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0320A-E94C-4A05-B1E6-43924ED0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C1E68B-777D-4D1E-9FF7-AF358C2C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7BB6F0-48CA-45E4-ABC1-337B9987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A6A690-2AB6-4985-9712-000CA58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B3234-C827-451E-8691-4C252490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B04C-E7E4-4FD5-ACDE-42047A4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A5D964-A451-4150-8743-B65D870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1BCC7-05C1-419A-B65E-266015AD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33DEAA-1802-4C6F-BDB7-A02099D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3D0ED7-D811-4C40-BD52-D015E1B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248B2-AE00-44A5-A627-C3AD7B3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C1654F-039E-478F-B316-4B850BE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B0A58D-5893-4797-AD3B-E22B357D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D51A94-36F0-47C3-B616-F8874277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614352-84DF-497A-B330-556A272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6F1524-A3E4-4805-A65A-B5CEDAF3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AB74-9A1E-4813-9A33-FFFED725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75FF10-132B-4656-9613-CDBBCD24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C9AA76-916F-4231-996D-47CFDCD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E06837-D1B4-4678-9DFE-BFB5874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EE01B9-36E4-4A5B-807A-D50EB99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7C7165-F32F-46E4-A1D4-F627539E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703484-81FC-494E-B77C-75D45AE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00CE06-AEDC-4471-9128-446E6B6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3A8666-0425-411E-AE8C-BB3B886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D00219-85BA-49CB-870A-B204F6F6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9A3365-E79E-4322-AA61-FC6F2312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2CB6-9D26-46D8-8B51-CCEAE56B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8882D5-352F-413F-B24C-ECBCA522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37658-C97B-47FC-B2D9-487F2C02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37134E-BB2C-4C33-9E4F-2750591C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1979C8-2B6F-4F63-8D50-3F05501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8C9227-43EF-439A-927D-EB9ABD70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4CA10-F250-4E37-AA1A-3E4D4CE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37C398-C20B-45FC-BCA1-66F80D8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72D9E6-5D0F-4D5B-B258-9797395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1EA874-29A8-4822-A2D9-E152C81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BC79FB-D68A-46CB-8796-43C1D56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EF97-410B-420D-AC9F-721830DC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EFE5D1-D5B1-4884-BCFB-A36F57F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4B5791-0F7C-4761-A74A-B76AC0DB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073A03-F5CB-4BD0-9763-26890186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8315FA-E63A-406C-9176-71A368F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82D3D9-5055-4BD6-8FD6-F48BCC8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1BEB0E-3A8A-481D-AFB0-C1A0D5A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AC952D-6BD3-462A-8491-AB496ECE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4388E2-F9BC-402B-BCBA-43191B4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FA7BE3-D157-448D-A2F8-6A6A947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4FD32C-2473-412F-9195-0B5E48C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E3B2-11B2-4F24-AB72-7802CF97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F606CC-0136-4AAF-A2A2-3A1ADE0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6A45A4-E6EC-4DF4-846E-736B095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7B51BC-C3B0-4EA8-A643-DEAE4A8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81163A-F408-4E0E-95E8-2EA7FE4C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0BF4ED-7978-4E9D-AE3B-36AD8FCA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0F7608-0596-4D79-B234-1CA5D056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4C023F-1F33-4A79-BB56-91DFAF4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1B8F2C-F7DA-4A21-90B8-7EA87C6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B1B792-8C85-4863-9281-EF10E93B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C69CA4-D2F5-418D-BEA7-94BCA61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6B1C-42AD-47EE-A5D6-944E51B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C84DEB-C873-4653-A69C-59E2A43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DC3B33-FD93-48F0-A42C-F107A0E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CAC76F-3754-4C83-B361-BD9ABA2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01019E-5A01-4DBA-BFED-74091C7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89897F-74A8-4EF7-B355-DA149B9A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C4ABEB-ACAD-4DAE-8FBE-6C400DC2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C31361-1707-4C13-A3F1-6B3B072D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8420F9-514E-4E9A-A475-B0BC445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5EFB12-DB20-4533-A586-63AA966F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1380BA-5144-4E8A-8A22-ACC1B9AC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02B-BBB1-406A-AB9C-9A45E7D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A542-221B-4B3A-AEBC-D9C50C9E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01FC65-70C9-440E-AC25-01246F0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396FD1-219B-4350-A1A4-70B2CFD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181138-8728-4B06-9D10-807D5839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79A751-BB2C-446D-B06D-24010E7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95B5A6-7E90-4F93-B9D9-18F55D8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A1850E-70F7-4DBF-B04F-E4F8465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DABE49-19E9-476E-A214-7B4D453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63F959-0D4D-4DAD-BD55-DF54D7AF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A10105-30C6-46B7-A98E-EEBAE0EE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EAAC2F-89AB-4A5F-8E0E-104E99B2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445C-BA82-4BBD-929E-AB4FA1B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1AE7E1-BBC4-4FCA-8E31-BCC932B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582205-2BCD-434D-9929-C53316E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31F43C-4AD4-4636-AEC2-340ECE7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A25FB2-9F60-4186-9009-2B29A5C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C5316D-4C27-44E5-BA60-155B84E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D3147F-6D3B-4E42-A277-2DBC03E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E30878-C5E9-462F-90A1-B366509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96DDAB-BABA-4E99-8856-A84EF76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2A4B44-B97F-435E-9798-D64A09B8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FDEBD8-6B84-4EDC-854C-8F84ABE3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6B59-D5F4-46DE-8A91-BD20CBD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DA6BE1-7735-49F3-B21A-37EF08CA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370430-BA25-480F-BD6B-9DACCD09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C85BC9-6C25-49B6-8AEE-77883BDA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55DA80-6593-4D93-800A-5F87082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BB5EE8-B4DB-42BC-9A0C-3E0D3E3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D35AEA-6865-46BB-A8FF-9AD8B0D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B7165E-2D31-4993-8863-624F487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F0DA5B-46F3-4D61-8857-9FD278A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F95410-4010-4731-81C8-E40E575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3EFD81-D406-437D-BF99-135C59A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0905-8FD5-4790-B3F7-12F3C59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69E8A9-1BE7-4528-87DE-884BB2C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9580F5-6C36-40E6-8ADE-AB56F915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62D97C-8373-4D75-8C0B-CDC0CD4D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ACDEB0-DB7A-48EA-90CA-0F4D2BBE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0CA598-85B9-495C-9FE5-0C29A19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BF6EAC-8310-4FAA-812A-691F165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5F2840-4544-4FFD-BD14-7955F5A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AE9F15-2B33-4193-9E19-DAA841B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6E36C4-BBEF-422F-9309-8E06AC9C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BA1BE5-A9E0-4FE7-82D5-6AF7363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7D7A-B7E9-4A8A-9D95-6260DF3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E9D7B7-2B2E-4B46-A805-9E97AC5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69417E-DF92-4FF7-B3EA-67518F7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BC88D9-497F-4110-8DC2-F2E8C141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EFCB74-D296-48D5-BE1C-3A9E2883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312B07-81D1-4899-BC42-913691CB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4B9B2E-E075-4D2C-B2AC-7671098C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9995DA-0215-47AA-B1E9-D763D4D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A2D238-AB3A-46E0-B6C0-7B65B03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DC9DB3-EDD3-4202-A94B-E5F85ABF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AF896E-48B4-4BCB-9A57-A53C86A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66AF-FBE3-42B8-BD2D-E494429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DD135B-5819-491E-BEF3-345FB3C5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5A5798-97D5-48FF-831A-C4A73A5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A8D1B7-18D2-4EEF-9562-7900CBF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556ADB-C2FB-4514-A523-B1D7906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051F83-25F1-473B-80E8-D92EB6A7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4F8C17-9BF7-4777-96D9-F6E4C0DB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E89185-1F06-4921-BD3E-CDD45910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418DF9-0B0C-4CE5-82CA-F9940AD8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C97ACA-EF2C-4AEF-B33B-ED7EE4E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AC6C97-6238-4FD0-B667-3D57061F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C634-CEB6-40A0-ABB9-962132C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E5E9C8-5721-4904-A48C-3350EC3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3FDEAA-2194-4BDE-925C-6A0CF1B4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825841-8CD1-4162-B218-0C3AA24A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A63A6A-1DE3-4B63-AD50-CA6D974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7B36F5-C1C6-414E-B1BA-AFD8AED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E4A00E-94EF-4844-9D8B-B77EC41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C08E7D-475D-480C-8933-5A978154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F4F3F7-1306-495B-8C21-05393987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65ADCB-4F4D-4155-A994-32B5B5E9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DB0148-71DE-4866-AE73-EA84ADCE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7263-A528-4D51-B175-F71297A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F296F8-1D90-4D51-B5C5-86F60668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3FA8CA-84EB-453C-A900-63F3E387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EB4F9E-6D8A-44F6-8A61-F7EDEAF0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4F45F4-876C-47C2-B410-C3143AB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3A98F0-614D-466E-9F8A-2BF82B6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021523-5E3D-4B89-A8E2-48111A2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007C34-5AD6-42B7-B5EA-76670CC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BF9C28-445F-4FF6-977F-440BE05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EBC802-B6F3-46D4-BF28-5D196E5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E70C73-ECEC-46CB-A272-AD958F89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AA0A-2A26-4845-A30B-E4706F85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6204BB-838E-45D0-8ED3-E36A09B3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18A1D1-F9B5-47AB-8613-2B6DE10D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427B0D-A4B3-47C8-BB2E-F4403EC7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249F5A-BCA3-4DD2-B4A7-2437898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38368A-7BFF-4477-9BAC-7C9DD2B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487EDA-4D2F-4B02-8EE0-EC39B871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94571F-4385-4670-9F89-F125979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1AD614-B033-49C5-AA64-A263AF5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025821-804A-446D-92CB-EB4AD5A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E0625A-BA23-4143-A460-17A3D86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3E58-59E5-434C-9238-B3D79D27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A2F9A6-438B-49D4-9C82-89654E99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35ADE7-B2CF-46FE-BA0C-717BA705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74BF94-E36B-442B-BFE0-233AA163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107C6E-2869-44B0-888A-54743138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B6205A-A2F0-43FD-B704-4A8C30E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ED62B2-6B1A-4BF9-9961-0577C06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D4D548-3854-474E-95C6-9D9BBBD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2BBA28-7E21-438A-B0AB-872B988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FF9364-DCC6-4BF8-8DF6-3C2C90DA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D7CC36-1465-4EBE-B432-F53DCE2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7FF-AA61-47D7-9C77-C3035CB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1D8B-1379-4FA1-865F-4810F8A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BF87A0-1801-48B8-A8FF-A666AD1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5E55EC-DBA6-4900-8E08-D3674597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D9A9AE-5067-4F9C-B289-BD79AF5F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E46279-7C46-4A53-9C1A-4CBC6DC7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400189-F652-435F-B851-05F2CEF7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83C4-3F12-40C9-9683-158D6F17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DE49A-0D56-4863-8C15-65C6747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332AD-1106-4160-AFAE-7D79ABF4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1A85-DEDC-41CA-8878-6DBC0462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FA41-E2F5-45A6-8E5C-8B2CAEC2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346F-00F5-496D-ABA4-0FD8FB4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DDF2-C6FF-4982-A4A0-2FAFB26F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319E-7884-45A7-BA63-38066A6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1FA5-0150-4BED-925A-E7783A4E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84D-43ED-4C2B-8E08-D2FD9685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58510-51BF-4ACD-8159-153F35CF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29C7-7FF2-4E8F-BA4E-8786080C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DCEF4-E9AB-4BF2-A2FF-3DD9594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781D-D45D-42A7-9283-D1CDDCB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4602-FD88-4517-B96F-9793AFF4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D195-0B03-49C3-B47D-AE286168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DBCB-4122-4802-9CE1-95981F63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B58F-5514-4DE9-96AC-F5DB952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CEEB-76EF-4F8D-912A-0037C6A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C0FC-4FB5-4951-8BA5-6653A70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23-A628-49A8-BFAF-B706805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22F8-B7D6-4048-A5EC-962DE922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73C2-E176-4ACC-8AD2-932BBDB6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EC0F9-6E64-4C81-ACA4-616EAF1D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5EC4-6640-4AF4-96AF-401B566D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3F535-03E1-40B4-AC48-15F7C6A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EE8A-43F5-4689-9990-9FFC166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BC2D9-693E-4A09-A415-544E590F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E338-CE87-4BBB-AF42-8FFED95F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0C34-6796-4E0D-954F-86C2F32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F562-8DA8-46E0-8FFF-AAB58C55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1B2-D1A5-4838-B6C9-8997B03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7564-41B5-4793-B5C0-F83C568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3D32-A386-4985-9472-87C28E7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BF3C-2723-46CA-8A94-918FB14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EAC8-9A30-4492-9ABA-6A8FFD3B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5A9B-25C9-471C-87BC-0A412D83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CF14-CF96-4983-9689-A75D820E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82DC-85B8-4653-959E-B77E420F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41A4A-0580-4BEE-952C-1BD3A747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A185-FF6D-4425-9C68-34F7AA3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9BB6C-C9E7-4D3A-8218-D236A75F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C40-033C-4CD3-98C1-F969940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1FE2C-2BBC-4302-B5F7-96FD876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5F3E-43BA-4866-A616-004FE52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7CD0B-87C9-4C05-AEC9-FDB7DC9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FB71-7FCE-419A-BFBF-B2E1A36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4684-B55E-41C5-8E6F-67E37181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B8B7B-9BFD-41F2-BA8E-5191377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E5D14-26C8-4B91-B54E-BF1BF773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9E70D-DEAC-4F09-BB9A-9394FA36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F24B2-A996-4036-BEC6-53D1666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2EA8-B905-4FD4-B115-3184897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E1D-A368-46C5-A12A-BC6970984420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963-B037-463B-BAF4-8D726DB2F8D8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420-ABA2-4DB3-9BAA-7F3D78B736DA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90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6380-B2C4-4B88-B45B-26A6C277759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E7C5-B31B-4337-BA30-171D5ADB66CA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B92-DCC3-4618-A129-2BF4A452929C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E521-377E-48F4-85DD-E53811E4760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137-E638-4130-9C9A-36D0F2821B3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3A6-528A-4CC7-9603-F2045E3AA1CB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6B7-B473-4463-BF15-85FF771400D6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5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912-8779-4BF6-8A3F-4B1D7869D7F6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D77-80C5-4EE6-AE3D-E1EB2A5880B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9A3-62CE-4B3A-95DC-FAE931464704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3D1-B2E2-4222-8BE4-35239601B1A1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3128-107E-4ADF-B441-C40EFFDC1119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5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76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8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2DD-008E-4EC0-AB05-F49D81054E6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89B-B19E-407D-8161-9F722E37253B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3751-5069-47D8-B92F-3FF66F00350E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4B84-E4DB-41F8-8A26-799837D6E9E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7E8-3B20-4052-88B0-55713627283B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430-4353-4A24-BE84-6235615CAF3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8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F3C6-9B83-4796-B73E-6382804233F3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EAE-D689-4A39-A371-CC3DAE181723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8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6AA2-B1A7-4BA8-9763-9F890FC8EB10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9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9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3385-9414-41C7-856F-D3DCE7DCDFE2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Line 9"/>
          <p:cNvSpPr/>
          <p:nvPr/>
        </p:nvSpPr>
        <p:spPr>
          <a:xfrm>
            <a:off x="1752480" y="3733920"/>
            <a:ext cx="723924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Group 15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373" name="Picture 1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4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4"/>
          </p:nvPr>
        </p:nvSpPr>
        <p:spPr>
          <a:xfrm>
            <a:off x="167652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5"/>
          </p:nvPr>
        </p:nvSpPr>
        <p:spPr>
          <a:xfrm>
            <a:off x="2742840" y="6244920"/>
            <a:ext cx="487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6"/>
          </p:nvPr>
        </p:nvSpPr>
        <p:spPr>
          <a:xfrm>
            <a:off x="777240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9B9-33E6-4E27-9055-C52A568E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417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7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8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9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39E0-7F08-49D8-8AE5-DE4B92DF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461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100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101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102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2F0-9ED7-44CF-A4A4-0F61064D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05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3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4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5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9DD-59F0-40E9-A2E4-7E90BF0F1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8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49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6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ftr" idx="107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sldNum" idx="108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BC90-839E-4437-AA10-AEC64DA7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93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09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10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11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58F-CB36-4D51-AA2E-FD56E83DF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637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12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13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14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065B-B3C4-4E98-9D7A-37B049F5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681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2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15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16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17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DD5-5822-42DE-9943-0E5E79D5B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3CF-44A9-49D1-967E-29CEDAF876D1}" type="datetime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C5F-26FA-4522-B9BB-613B770E91A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25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18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19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20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AD4-73D2-4966-B72C-ABB168B19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69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0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121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122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123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A54-79E2-479C-AF8E-337065A29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813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4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24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25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6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9E01-F520-4F90-B79F-0811D2AA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341-85F7-4166-B28A-2D6AFD16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6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4156-DB9F-4F2B-9DA3-0B365073F148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2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541-2B3A-4626-9C11-1007248CE2B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D526-BDD8-49A7-A16A-79866D873E71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169-3E93-4D58-9C74-7DEE730232B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лого и среднего бизнеса</a:t>
            </a:r>
            <a:br>
              <a:rPr sz="3600"/>
            </a:b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236196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Daiva Viningien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Ryga</a:t>
            </a:r>
            <a:r>
              <a:rPr b="0" lang="ru-RU" sz="2600" spc="-1" strike="noStrike">
                <a:solidFill>
                  <a:srgbClr val="303030"/>
                </a:solidFill>
                <a:latin typeface="Perpetua"/>
                <a:ea typeface="Arial"/>
              </a:rPr>
              <a:t>, </a:t>
            </a: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20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онсалтинговые услуги на льготных условиях программ развития бизнес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слуги бизнес-инкубаторов, технологические пар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слуги по обучению на льготных условиях развития бизнеса и программ занятост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ддержка создания новых рабочих мест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истемы микрокредитования для начинающих предпринимателе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начительное влияние на малые и средние предприятия имеют городские и региональные органы вла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одоходный налог с населения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е советы имеют право для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е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а на прибыль или полное освобождение от нее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(физические лиц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395280" y="692280"/>
            <a:ext cx="8259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2. Обязательна</a:t>
            </a:r>
            <a:r>
              <a:rPr b="0" i="1" lang="ru-RU" sz="2200" spc="-1" strike="noStrike">
                <a:solidFill>
                  <a:srgbClr val="000000"/>
                </a:solidFill>
                <a:latin typeface="Book Antiqua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патентна</a:t>
            </a:r>
            <a:r>
              <a:rPr b="0" i="1" lang="ru-RU" sz="2200" spc="-1" strike="noStrike">
                <a:solidFill>
                  <a:srgbClr val="000000"/>
                </a:solidFill>
                <a:latin typeface="Book Antiqua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пла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изическим лицам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может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нкретны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овые ставки (минимум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Земельный налог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своего бюджета имеет пра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ит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 на землю или исключени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алога на недвижимость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своего бюджета имеет пра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ит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 на недвижимость или исключени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499680" y="12855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5. Цена за рыночное мест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имеет право на увеличения ил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е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ов до 70%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6. Местные налоги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е советы имеет право для определения ставки местных плат и облегчени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7. Субсиди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бычно дается физическое или юридическое лицо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бсидии могут быть предоставлены для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енсации заработной платы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новых рабочих мест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ектное финансирование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центных ставок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енсировать расходы на участия бизнеса в выставках, ярмарках, деловых миссиях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395280" y="620640"/>
            <a:ext cx="8291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ожет получить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икрокредиты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от литовских  кредитных  союзов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лиц, желающих начать свой бизнес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икро, малых компаний и частных лиц, которые работают в бизнесе с бизнес лицензие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когда социальное предприятие развивает бизнес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Perpetua"/>
                <a:ea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Инвестиции и бизнес гарантий " (​​INVEGA) предоставляет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убсидии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VEGA предоставляет гарантии по банковским кредитам для МСП лица (до 80 %) и охватывает до 50 % гарантированного зай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394920" y="765000"/>
            <a:ext cx="825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анки предоставляют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кредиты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микро, малых и средних предприятий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 175 000 мил лит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Цель креди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инвестиции или оборотного капитал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 350 000 мил лит.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Цель креди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развитие малого и среднего бизнес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Perpetua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Бизнес-ангел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еофициальные частные инвесторы, финансирует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жизнеспособные новые компании/бизнес-идеи/проекты, а также передаёт свои знания, опыт и деловые контакты. Он финансирует высокорисковые проекты, чем банки не интересует. Среднестатистическим инвестиционный ангел: 20-200 тысяч. евр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в Литве 2000-2013 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регистрированные и снятые с учета)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82" name="Turinio vietos rezervavimo ženklas 3" descr="juridinius asmenu skaicius.jpg"/>
          <p:cNvPicPr/>
          <p:nvPr/>
        </p:nvPicPr>
        <p:blipFill>
          <a:blip r:embed="rId1"/>
          <a:stretch/>
        </p:blipFill>
        <p:spPr>
          <a:xfrm>
            <a:off x="395280" y="1546200"/>
            <a:ext cx="8424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8964720" cy="4896000"/>
          </a:xfrm>
          <a:prstGeom prst="rect">
            <a:avLst/>
          </a:prstGeom>
          <a:ln w="0">
            <a:noFill/>
          </a:ln>
        </p:spPr>
      </p:pic>
      <p:sp>
        <p:nvSpPr>
          <p:cNvPr id="188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4A3-3CCB-4CC7-A668-2DBFBF6F09F6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tačiakampis 1"/>
          <p:cNvSpPr/>
          <p:nvPr/>
        </p:nvSpPr>
        <p:spPr>
          <a:xfrm>
            <a:off x="684360" y="54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процессов банкротства в Литве 1993-20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а и завершения проце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179280" y="333360"/>
            <a:ext cx="8507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20 лет, МСП разработал большинство новых рабочих мест. В большинстве случаев, малые и средние предприятия нашли новые рынки сбыта, предлагая новые и лучшие продукты и услуги, создают новые рабочие места и экономические изменения, стали лидером в этом процессе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3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ля каких микро и макро причин страны Европейского Союза все больше и больше рекомендует сосредоточитъ больше внимания на малый и средний бизнес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250560" y="404640"/>
            <a:ext cx="84358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кр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рассчитывать на ресурсы недопустимо крупного бизнес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довольствоваться небольшими нишами и развивать свою деятельность в менее привлекательных направлений деятельност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связь с рынком и окружающей средо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создания, управления и выходы из рынк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й жизненной цикл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издержки производства из за низкого производств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риск с кредитам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спользовать домашнего хозяйства, ресурсы родствен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 txBox="1"/>
          <p:nvPr/>
        </p:nvSpPr>
        <p:spPr>
          <a:xfrm>
            <a:off x="395280" y="144792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р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лый бизне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бы росла экономи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ни привлекают динамичных людей - предпринимателе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гут гибко реагировать на изменения рынк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величивает конкуренцию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то -один из основных элементов здоровой экономи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шает проблемы занято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Сравнение понятий  предприяти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й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 малого и среднего бизнеса (МСП)</a:t>
            </a:r>
            <a:endParaRPr b="0" lang="en-US" sz="22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1187280" y="1268280"/>
          <a:ext cx="7129800" cy="4267440"/>
        </p:xfrm>
        <a:graphic>
          <a:graphicData uri="http://schemas.openxmlformats.org/drawingml/2006/table">
            <a:tbl>
              <a:tblPr/>
              <a:tblGrid>
                <a:gridCol w="1989360"/>
                <a:gridCol w="5140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br>
                        <a:rPr sz="2000"/>
                      </a:b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250 работни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й доход не превышает 138 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е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50 сотрудник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й доход не превышает 24 мил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 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10 работни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го дохода не превышает  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. л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количества работников (2013)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4" name=""/>
          <p:cNvGraphicFramePr/>
          <p:nvPr/>
        </p:nvGraphicFramePr>
        <p:xfrm>
          <a:off x="395280" y="1700280"/>
          <a:ext cx="8497800" cy="3720960"/>
        </p:xfrm>
        <a:graphic>
          <a:graphicData uri="http://schemas.openxmlformats.org/drawingml/2006/table">
            <a:tbl>
              <a:tblPr/>
              <a:tblGrid>
                <a:gridCol w="1728720"/>
                <a:gridCol w="2517840"/>
                <a:gridCol w="963720"/>
                <a:gridCol w="2212920"/>
                <a:gridCol w="107460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личество  работ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число групп МС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работ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5–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 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–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 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–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 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8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50–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7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8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0–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0-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4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 размерам дохода (2012-2013)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395280" y="1989000"/>
          <a:ext cx="8640720" cy="3162600"/>
        </p:xfrm>
        <a:graphic>
          <a:graphicData uri="http://schemas.openxmlformats.org/drawingml/2006/table">
            <a:tbl>
              <a:tblPr/>
              <a:tblGrid>
                <a:gridCol w="2844720"/>
                <a:gridCol w="1576440"/>
                <a:gridCol w="1576440"/>
                <a:gridCol w="1574640"/>
                <a:gridCol w="1068480"/>
              </a:tblGrid>
              <a:tr h="4921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 размеров дох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 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-01-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-01-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личество М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личество М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 1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1 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9 8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–6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1 6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 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–2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4–13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 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авовые формы малого и среднего бизнеса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108000" y="1447920"/>
            <a:ext cx="88567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В соответствии  законом применимого права (2004-2011) Литвы МСП мероприятия могут быть организованы как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Book Antiqua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приобрести лицен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ю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 на предпринимательскую деятельность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егистрация отдельных видов деятель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ние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Book Antiqua"/>
              </a:rPr>
              <a:t>юридического лица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Индивидуальное предприяти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Акционерное обще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Некоммерческая организация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Коммандитное товарище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 2012 года. 1 сентября. Можно создать новую правовую форму компании - Малые сообществ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9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арианты поддержки МСП</a:t>
            </a:r>
            <a:endParaRPr b="0" lang="en-US" sz="28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250560" y="1447560"/>
            <a:ext cx="87138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алый и средний бизнес может использовать эти формы поддержки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логовые льготы в соответствии с законом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Фонд поощрения малого и среднего бизнеса для финансовой поддерж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осударственные и муниципальные финансовая помощь от программ развития малого предпринимательств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59:51Z</dcterms:created>
  <dc:creator>Daiva</dc:creator>
  <dc:description/>
  <dc:language>en-US</dc:language>
  <cp:lastModifiedBy>Daiva</cp:lastModifiedBy>
  <dcterms:modified xsi:type="dcterms:W3CDTF">2013-05-22T19:39:54Z</dcterms:modified>
  <cp:revision>44</cp:revision>
  <dc:subject/>
  <dc:title>Smulkaus ir vidutinio verslo (svv) samprata</dc:title>
</cp:coreProperties>
</file>